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4DFF7-DAFE-4BDD-8CF2-1559D2A07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895A7-ADFF-4BD9-8EFE-CDC8336E5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886075-49FA-4A06-B285-0858B9769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56048A-0833-49DF-96AF-41CECF2C6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DF2FE1-FDB3-4917-89D6-DF0E7CF04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3F0926-231C-4554-9148-A4502810D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6CA0CE-390D-4F91-BC5F-553C7F2DC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39AB2A-6240-4C5E-8C69-4BF1F1573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2E9BA5-2776-4F84-A44D-6ADEE74B0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7AD6DE-5D30-4049-AE67-830C24813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D74F91-2FB9-4876-8BDF-3A26D1682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206FD-29CA-49A2-B651-CAE975390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26D14-F93C-4C2B-A869-237E6F9EB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EC723-6A4B-4D9F-8552-810B809D5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732BC-DAA3-45BF-AFB7-A198B7A73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B7C23-5087-4DF3-9033-A4C7F1F8C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5110F-FA16-43AE-B466-530BFDBAB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9A020-E185-4F83-A9E0-CA9BC8CAC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BE20D-9A34-4693-AD59-EFD6D5D8E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DCF2B-CCE2-4E9E-A422-D2D56D92D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13708-8B6D-470E-932F-5B2F7305E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0559D-8DF1-4845-8348-93F6D8A11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9E151-C8E3-4ED4-BF27-395F018D8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16559-72D0-4806-95BA-808289064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57EC2-CE17-4991-A68B-2C7B6E8DE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6DE78-2219-4D08-B994-B1BA28CFF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B19F18-4C67-4E90-8545-C2C7A3213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2824C3-15E2-41CB-AD82-22C92957A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7F1158-C7EC-43EE-B9BC-9B4309FDE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645B94-9CA9-4E71-B6DA-6872FC691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4592EE-7751-42B1-8CEC-27A55129C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0C19B-ADE4-49BC-A7BE-258510F34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5A2979-5DB4-46C2-B125-E112EDEBE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8EA93E-4FEC-44FC-82E5-3C9BF8A89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9A2520-F40F-4D0B-B8BC-F31C28080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0211EB-EA4F-4F2A-8978-2B74705DA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18403E-9030-46C8-B685-363A472E2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5C592C-24BB-43AC-95BE-5523698F7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AC04CF-0899-4D8A-BD7C-1A0586649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F93082-672B-4279-94CB-68013AFDB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D408FA-BE1C-40C0-9EC0-4EEC9D48D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27291E-B710-4330-8AAC-5626DFD64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9AF66-C08E-44DB-A0EC-877D3AA33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23DE2B-F340-422B-9FF6-AC72634AA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C1DBEC-421D-405E-A062-5463872F2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049894-58AC-476E-B3F7-C8D659EEF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BB3067-060B-4886-8C77-9740CAB51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4723BB-0394-44DF-A043-A3C859794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8B6F58-562D-4CA5-BBEA-C1F79026A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CB2AA5-FB43-4779-8985-CD3E0238D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22D03C-1D77-43BE-BA9D-9221CD71D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16AE6F-56B5-4A8C-BBE4-819C35836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6BF413-D489-4B9C-AC32-FF1BB93D4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0562A-9F8E-41D0-8BC5-F584B2C60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1FCF2C-E47B-4631-B195-239B8CBFD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D3E5EC-1543-4B49-8BF6-95B413E7F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06D823-4660-47D2-9C6A-AF9EC1A95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EF05DA-EFCA-4D05-99CC-8B3B4CE6C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CB04A9-6C8B-405D-B55D-585E95607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AB286B-D841-48E5-AC14-B8528B894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13928C-666D-4448-B820-8D7879710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223F4C-6E52-40DF-9E21-E863378E5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1DE895-43BD-4938-A761-E1FEAB5AD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F7BB52-B163-4880-9352-2425201E9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D965B-AEE8-4D6A-8841-E8E55B17E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770E84-2B8E-43BC-B498-AE2204A1F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940788-E0C9-4B1E-8B79-4C1382088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239804-B451-4046-B0A9-2F6E3BBE7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166A13-CDD3-4E37-95A4-903EEBDEB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D98281-B31C-4E2A-B1F3-A0317B375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C1B5D3-1860-4897-AFDA-0C61B9529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504931-466D-4AFF-AF09-1931D53F8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3B0A90-7D54-4DA4-9802-7529DE60B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CB8242-3644-4DEF-B707-5D408596A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4BB5E1-5340-41CA-9A4C-9022D820C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67919-694D-4DCF-9788-9C8E6E311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154381-9F0D-44B9-9AF0-1250D81A3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5BF0EF-4CAB-48F0-BFF7-2859FADE9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32A084-E476-400B-A9C8-65E7FC809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85BD31-5085-4F82-BD41-4B6EFE46B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A70658-E11F-4671-993D-0785D8322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FA9105-1F38-4C7B-833D-19DCF5099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6DD47F-9368-4CB5-902B-02F6621FD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C4E8DE-31B2-45BA-8878-7D8A2CCC9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6D6B1A-0EA8-4BD3-925F-449F622D2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0F49EB-1784-4588-A40E-19F1ADD97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235A4-7D5C-4E58-9FBE-0C74ACFB8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7D57EC-D7EE-4F75-87FD-A67CF0326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52A3A3-B4E0-4D7C-85A9-EAABDFF5C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6B2FC3-A0BB-427E-9941-3067DDE5B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343BF3-6553-4AFC-9E77-C957508D0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1D6ED8-9205-4D53-BEEA-AFFA5B878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A5EB0B-9CF2-407C-B41B-9B1C1184A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176EB6-105A-446C-8A1B-1361CAB46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930F2F-B974-48DF-B137-629536139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300E20-2F40-43E8-A93B-54ED0D27D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12F08E-84A0-4B61-AFF8-54769FD66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BC09B-ADF0-4131-BE0B-172B1C835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7B515E-8F48-4074-AA1B-D6BF607D6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18C24B-5386-48E6-8639-FF82C4DF4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FC39FF-BF9D-47FE-8267-94DDB942B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C4E76D-4D7F-4939-B387-EF08D5F4A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EDD73F-32F0-4544-ABEC-AF4924681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7A8761-413B-49A5-BB8B-9D30D5684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9C546E-4190-4051-A393-81CDD6B4A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EF7B11-F928-4125-BB90-0B263D2E2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744C00-EF2A-4FED-B49C-46A4280D6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867D6E-3FCE-4B07-A85B-09BDE22CC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e8637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0752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0752f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0752f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8DAFB-0208-4A72-8ED2-B8E3C0EC52EE}" type="slidenum">
              <a:rPr b="0" lang="en-US" sz="1200" spc="-1" strike="noStrike">
                <a:solidFill>
                  <a:srgbClr val="e0752f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5f6d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grpSp>
        <p:nvGrpSpPr>
          <p:cNvPr id="8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Straight Connector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e8637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5f6d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0752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0752f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0752f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5103F-01BC-48ED-B005-157496EC1814}" type="slidenum">
              <a:rPr b="0" lang="en-US" sz="1200" spc="-1" strike="noStrike">
                <a:solidFill>
                  <a:srgbClr val="e0752f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e8637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5f6d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0752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0752f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0752f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EA899-6132-467F-B8BD-38470790E7A1}" type="slidenum">
              <a:rPr b="0" lang="en-US" sz="1200" spc="-1" strike="noStrike">
                <a:solidFill>
                  <a:srgbClr val="e0752f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Straight Connector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9d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ff39d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9d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ff39d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9d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ff39d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9d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ff39d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e8637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9d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ff39d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9d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ff39d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9d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ff39d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39d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ff39d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0752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0752f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0752f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A932A-906A-41FC-B9F7-21824E92DDBA}" type="slidenum">
              <a:rPr b="0" lang="en-US" sz="1200" spc="-1" strike="noStrike">
                <a:solidFill>
                  <a:srgbClr val="e0752f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Straight Connector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e8637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5f6d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0752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0752f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0752f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B7A7B-2601-464F-A141-B2701A2008D4}" type="slidenum">
              <a:rPr b="0" lang="en-US" sz="1200" spc="-1" strike="noStrike">
                <a:solidFill>
                  <a:srgbClr val="e0752f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e8637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5f6d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0752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0752f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0752f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B360C-5068-498D-8539-1D6C6CCB4CC6}" type="slidenum">
              <a:rPr b="0" lang="en-US" sz="1200" spc="-1" strike="noStrike">
                <a:solidFill>
                  <a:srgbClr val="e0752f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Straight Connector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e8637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5f6d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0752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0752f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0752f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85D1A-419F-4F15-A21C-6524ED2A8298}" type="slidenum">
              <a:rPr b="0" lang="en-US" sz="1200" spc="-1" strike="noStrike">
                <a:solidFill>
                  <a:srgbClr val="e0752f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e8637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5f6d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0752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0752f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0752f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53FBB-90C0-47AE-AFC3-16137510A0ED}" type="slidenum">
              <a:rPr b="0" lang="en-US" sz="1200" spc="-1" strike="noStrike">
                <a:solidFill>
                  <a:srgbClr val="e0752f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e8637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5f6d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0752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0752f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0752f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8CFD4-AE2A-489E-ACFD-FAD730EF836E}" type="slidenum">
              <a:rPr b="0" lang="en-US" sz="1200" spc="-1" strike="noStrike">
                <a:solidFill>
                  <a:srgbClr val="e0752f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Title 1" descr=""/>
          <p:cNvPicPr/>
          <p:nvPr/>
        </p:nvPicPr>
        <p:blipFill>
          <a:blip r:embed="rId1"/>
          <a:stretch/>
        </p:blipFill>
        <p:spPr>
          <a:xfrm>
            <a:off x="182520" y="4761000"/>
            <a:ext cx="8663040" cy="168912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380520" y="38862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c535f"/>
                </a:solidFill>
                <a:latin typeface="Franklin Gothic Book"/>
              </a:rPr>
              <a:t>Mandatos practice. . .</a:t>
            </a:r>
            <a:endParaRPr b="0" lang="en-US" sz="2400" spc="-1" strike="noStrike">
              <a:solidFill>
                <a:srgbClr val="575f6d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 txBox="1"/>
          <p:nvPr/>
        </p:nvSpPr>
        <p:spPr>
          <a:xfrm>
            <a:off x="304920" y="1553760"/>
            <a:ext cx="8686800" cy="530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1" lang="en-US" sz="3200" spc="-1" strike="noStrike">
                <a:solidFill>
                  <a:srgbClr val="575f6d"/>
                </a:solidFill>
                <a:latin typeface="Franklin Gothic Book"/>
              </a:rPr>
              <a:t>Tú +</a:t>
            </a:r>
            <a:r>
              <a:rPr b="1" lang="en-US" sz="32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1" lang="en-US" sz="32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1" lang="en-US" sz="32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1" lang="en-US" sz="32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1" lang="en-US" sz="3200" spc="-1" strike="noStrike">
                <a:solidFill>
                  <a:srgbClr val="575f6d"/>
                </a:solidFill>
                <a:latin typeface="Franklin Gothic Book"/>
              </a:rPr>
              <a:t>Tú –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5f6d"/>
                </a:solidFill>
                <a:latin typeface="Franklin Gothic Book"/>
              </a:rPr>
              <a:t>Tener</a:t>
            </a: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ten</a:t>
            </a: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no tengas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5f6d"/>
                </a:solidFill>
                <a:latin typeface="Franklin Gothic Book"/>
              </a:rPr>
              <a:t>Venir</a:t>
            </a:r>
            <a:r>
              <a:rPr b="1" lang="en-US" sz="32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ven</a:t>
            </a: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no vengas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5f6d"/>
                </a:solidFill>
                <a:latin typeface="Franklin Gothic Book"/>
              </a:rPr>
              <a:t>Poner</a:t>
            </a: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pon</a:t>
            </a: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no pongas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5f6d"/>
                </a:solidFill>
                <a:latin typeface="Franklin Gothic Book"/>
              </a:rPr>
              <a:t>Decir</a:t>
            </a:r>
            <a:r>
              <a:rPr b="1" lang="en-US" sz="32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di</a:t>
            </a: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no digas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5f6d"/>
                </a:solidFill>
                <a:latin typeface="Franklin Gothic Book"/>
              </a:rPr>
              <a:t>Salir</a:t>
            </a:r>
            <a:r>
              <a:rPr b="1" lang="en-US" sz="32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al</a:t>
            </a: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no salgas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5f6d"/>
                </a:solidFill>
                <a:latin typeface="Franklin Gothic Book"/>
              </a:rPr>
              <a:t>Hacer</a:t>
            </a: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haz</a:t>
            </a: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no hagas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5f6d"/>
                </a:solidFill>
                <a:latin typeface="Franklin Gothic Book"/>
              </a:rPr>
              <a:t>Traer</a:t>
            </a:r>
            <a:r>
              <a:rPr b="1" lang="en-US" sz="32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trae</a:t>
            </a: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no traigas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5f6d"/>
                </a:solidFill>
                <a:latin typeface="Franklin Gothic Book"/>
              </a:rPr>
              <a:t>Ser</a:t>
            </a: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é</a:t>
            </a: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no seas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 txBox="1"/>
          <p:nvPr/>
        </p:nvSpPr>
        <p:spPr>
          <a:xfrm>
            <a:off x="457200" y="1553760"/>
            <a:ext cx="8686800" cy="530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1" lang="en-US" sz="3200" spc="-1" strike="noStrike">
                <a:solidFill>
                  <a:srgbClr val="575f6d"/>
                </a:solidFill>
                <a:latin typeface="Franklin Gothic Book"/>
              </a:rPr>
              <a:t>Tú +</a:t>
            </a:r>
            <a:r>
              <a:rPr b="1" lang="en-US" sz="32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1" lang="en-US" sz="32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1" lang="en-US" sz="32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1" lang="en-US" sz="32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1" lang="en-US" sz="3200" spc="-1" strike="noStrike">
                <a:solidFill>
                  <a:srgbClr val="575f6d"/>
                </a:solidFill>
                <a:latin typeface="Franklin Gothic Book"/>
              </a:rPr>
              <a:t>Tú –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5f6d"/>
                </a:solidFill>
                <a:latin typeface="Franklin Gothic Book"/>
              </a:rPr>
              <a:t>Dar</a:t>
            </a: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da</a:t>
            </a: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no dés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5f6d"/>
                </a:solidFill>
                <a:latin typeface="Franklin Gothic Book"/>
              </a:rPr>
              <a:t>Cerrar</a:t>
            </a: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cierra</a:t>
            </a: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no cierres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5f6d"/>
                </a:solidFill>
                <a:latin typeface="Franklin Gothic Book"/>
              </a:rPr>
              <a:t>Dormir</a:t>
            </a: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duerme</a:t>
            </a: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no duermas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5f6d"/>
                </a:solidFill>
                <a:latin typeface="Franklin Gothic Book"/>
              </a:rPr>
              <a:t>Volver</a:t>
            </a: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vuelve</a:t>
            </a: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no vuelvas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5f6d"/>
                </a:solidFill>
                <a:latin typeface="Franklin Gothic Book"/>
              </a:rPr>
              <a:t>Seguir</a:t>
            </a: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igue</a:t>
            </a: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no sigas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5f6d"/>
                </a:solidFill>
                <a:latin typeface="Franklin Gothic Book"/>
              </a:rPr>
              <a:t>Pedir</a:t>
            </a:r>
            <a:r>
              <a:rPr b="1" lang="en-US" sz="32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pide</a:t>
            </a: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no pidas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5f6d"/>
                </a:solidFill>
                <a:latin typeface="Franklin Gothic Book"/>
              </a:rPr>
              <a:t>Pensar</a:t>
            </a: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piensa</a:t>
            </a: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no pienses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4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4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4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4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4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4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4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4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4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4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1" lang="en-US" sz="3200" spc="-1" strike="noStrike">
                <a:solidFill>
                  <a:srgbClr val="575f6d"/>
                </a:solidFill>
                <a:latin typeface="Franklin Gothic Book"/>
              </a:rPr>
              <a:t>Tú +</a:t>
            </a:r>
            <a:r>
              <a:rPr b="1" lang="en-US" sz="32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1" lang="en-US" sz="32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1" lang="en-US" sz="32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1" lang="en-US" sz="32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1" lang="en-US" sz="3200" spc="-1" strike="noStrike">
                <a:solidFill>
                  <a:srgbClr val="575f6d"/>
                </a:solidFill>
                <a:latin typeface="Franklin Gothic Book"/>
              </a:rPr>
              <a:t>Tú –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5f6d"/>
                </a:solidFill>
                <a:latin typeface="Franklin Gothic Book"/>
              </a:rPr>
              <a:t>Gritar</a:t>
            </a: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grita</a:t>
            </a: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no grites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5f6d"/>
                </a:solidFill>
                <a:latin typeface="Franklin Gothic Book"/>
              </a:rPr>
              <a:t>Empezar</a:t>
            </a: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empieza</a:t>
            </a: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no empieces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5f6d"/>
                </a:solidFill>
                <a:latin typeface="Franklin Gothic Book"/>
              </a:rPr>
              <a:t>Mirar</a:t>
            </a:r>
            <a:r>
              <a:rPr b="1" lang="en-US" sz="32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mira</a:t>
            </a: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no mires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5f6d"/>
                </a:solidFill>
                <a:latin typeface="Franklin Gothic Book"/>
              </a:rPr>
              <a:t>Estar</a:t>
            </a:r>
            <a:r>
              <a:rPr b="1" lang="en-US" sz="32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está</a:t>
            </a: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no estés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4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4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1" lang="en-US" sz="30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1" lang="en-US" sz="30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1" lang="en-US" sz="30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1" lang="en-US" sz="3000" spc="-1" strike="noStrike">
                <a:solidFill>
                  <a:srgbClr val="575f6d"/>
                </a:solidFill>
                <a:latin typeface="Franklin Gothic Book"/>
              </a:rPr>
              <a:t>Ud.</a:t>
            </a:r>
            <a:r>
              <a:rPr b="1" lang="en-US" sz="30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1" lang="en-US" sz="30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1" lang="en-US" sz="30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1" lang="en-US" sz="30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1" lang="en-US" sz="3000" spc="-1" strike="noStrike">
                <a:solidFill>
                  <a:srgbClr val="575f6d"/>
                </a:solidFill>
                <a:latin typeface="Franklin Gothic Book"/>
              </a:rPr>
              <a:t>Uds.</a:t>
            </a:r>
            <a:endParaRPr b="0" lang="en-US" sz="3000" spc="-1" strike="noStrike">
              <a:solidFill>
                <a:srgbClr val="575f6d"/>
              </a:solidFill>
              <a:latin typeface="Franklin Gothic Book"/>
            </a:endParaRPr>
          </a:p>
          <a:p>
            <a:pPr marL="329040" indent="-32904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75f6d"/>
                </a:solidFill>
                <a:latin typeface="Franklin Gothic Book"/>
              </a:rPr>
              <a:t>Tener</a:t>
            </a:r>
            <a:r>
              <a:rPr b="0" lang="en-US" sz="30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en-US" sz="30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en-US" sz="30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en-US" sz="3000" spc="-1" strike="noStrike">
                <a:solidFill>
                  <a:srgbClr val="575f6d"/>
                </a:solidFill>
                <a:latin typeface="Franklin Gothic Book"/>
              </a:rPr>
              <a:t>tenga</a:t>
            </a:r>
            <a:r>
              <a:rPr b="0" lang="en-US" sz="30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en-US" sz="30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en-US" sz="30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en-US" sz="30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en-US" sz="3000" spc="-1" strike="noStrike">
                <a:solidFill>
                  <a:srgbClr val="575f6d"/>
                </a:solidFill>
                <a:latin typeface="Franklin Gothic Book"/>
              </a:rPr>
              <a:t>tengan</a:t>
            </a:r>
            <a:endParaRPr b="0" lang="en-US" sz="3000" spc="-1" strike="noStrike">
              <a:solidFill>
                <a:srgbClr val="575f6d"/>
              </a:solidFill>
              <a:latin typeface="Franklin Gothic Book"/>
            </a:endParaRPr>
          </a:p>
          <a:p>
            <a:pPr marL="329040" indent="-32904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75f6d"/>
                </a:solidFill>
                <a:latin typeface="Franklin Gothic Book"/>
              </a:rPr>
              <a:t>Venir</a:t>
            </a:r>
            <a:r>
              <a:rPr b="1" lang="en-US" sz="30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en-US" sz="30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en-US" sz="30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en-US" sz="3000" spc="-1" strike="noStrike">
                <a:solidFill>
                  <a:srgbClr val="575f6d"/>
                </a:solidFill>
                <a:latin typeface="Franklin Gothic Book"/>
              </a:rPr>
              <a:t>venga</a:t>
            </a:r>
            <a:r>
              <a:rPr b="0" lang="en-US" sz="30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en-US" sz="30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en-US" sz="30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en-US" sz="3000" spc="-1" strike="noStrike">
                <a:solidFill>
                  <a:srgbClr val="575f6d"/>
                </a:solidFill>
                <a:latin typeface="Franklin Gothic Book"/>
              </a:rPr>
              <a:t>vengan</a:t>
            </a:r>
            <a:endParaRPr b="0" lang="en-US" sz="3000" spc="-1" strike="noStrike">
              <a:solidFill>
                <a:srgbClr val="575f6d"/>
              </a:solidFill>
              <a:latin typeface="Franklin Gothic Book"/>
            </a:endParaRPr>
          </a:p>
          <a:p>
            <a:pPr marL="329040" indent="-32904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75f6d"/>
                </a:solidFill>
                <a:latin typeface="Franklin Gothic Book"/>
              </a:rPr>
              <a:t>Poner</a:t>
            </a:r>
            <a:r>
              <a:rPr b="0" lang="en-US" sz="30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en-US" sz="30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en-US" sz="3000" spc="-1" strike="noStrike">
                <a:solidFill>
                  <a:srgbClr val="575f6d"/>
                </a:solidFill>
                <a:latin typeface="Franklin Gothic Book"/>
              </a:rPr>
              <a:t>ponga</a:t>
            </a:r>
            <a:r>
              <a:rPr b="0" lang="en-US" sz="30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en-US" sz="30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en-US" sz="30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en-US" sz="3000" spc="-1" strike="noStrike">
                <a:solidFill>
                  <a:srgbClr val="575f6d"/>
                </a:solidFill>
                <a:latin typeface="Franklin Gothic Book"/>
              </a:rPr>
              <a:t>pongan</a:t>
            </a:r>
            <a:endParaRPr b="0" lang="en-US" sz="3000" spc="-1" strike="noStrike">
              <a:solidFill>
                <a:srgbClr val="575f6d"/>
              </a:solidFill>
              <a:latin typeface="Franklin Gothic Book"/>
            </a:endParaRPr>
          </a:p>
          <a:p>
            <a:pPr marL="329040" indent="-32904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75f6d"/>
                </a:solidFill>
                <a:latin typeface="Franklin Gothic Book"/>
              </a:rPr>
              <a:t>Decir</a:t>
            </a:r>
            <a:r>
              <a:rPr b="1" lang="en-US" sz="30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en-US" sz="30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en-US" sz="30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en-US" sz="3000" spc="-1" strike="noStrike">
                <a:solidFill>
                  <a:srgbClr val="575f6d"/>
                </a:solidFill>
                <a:latin typeface="Franklin Gothic Book"/>
              </a:rPr>
              <a:t>diga</a:t>
            </a:r>
            <a:r>
              <a:rPr b="0" lang="en-US" sz="30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en-US" sz="30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en-US" sz="30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en-US" sz="30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en-US" sz="3000" spc="-1" strike="noStrike">
                <a:solidFill>
                  <a:srgbClr val="575f6d"/>
                </a:solidFill>
                <a:latin typeface="Franklin Gothic Book"/>
              </a:rPr>
              <a:t>digan</a:t>
            </a:r>
            <a:endParaRPr b="0" lang="en-US" sz="3000" spc="-1" strike="noStrike">
              <a:solidFill>
                <a:srgbClr val="575f6d"/>
              </a:solidFill>
              <a:latin typeface="Franklin Gothic Book"/>
            </a:endParaRPr>
          </a:p>
          <a:p>
            <a:pPr marL="329040" indent="-32904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75f6d"/>
                </a:solidFill>
                <a:latin typeface="Franklin Gothic Book"/>
              </a:rPr>
              <a:t>Salir</a:t>
            </a:r>
            <a:r>
              <a:rPr b="1" lang="en-US" sz="30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en-US" sz="30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en-US" sz="30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en-US" sz="3000" spc="-1" strike="noStrike">
                <a:solidFill>
                  <a:srgbClr val="575f6d"/>
                </a:solidFill>
                <a:latin typeface="Franklin Gothic Book"/>
              </a:rPr>
              <a:t>salga</a:t>
            </a:r>
            <a:r>
              <a:rPr b="0" lang="en-US" sz="30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en-US" sz="30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en-US" sz="30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en-US" sz="30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en-US" sz="3000" spc="-1" strike="noStrike">
                <a:solidFill>
                  <a:srgbClr val="575f6d"/>
                </a:solidFill>
                <a:latin typeface="Franklin Gothic Book"/>
              </a:rPr>
              <a:t>salgan</a:t>
            </a:r>
            <a:endParaRPr b="0" lang="en-US" sz="3000" spc="-1" strike="noStrike">
              <a:solidFill>
                <a:srgbClr val="575f6d"/>
              </a:solidFill>
              <a:latin typeface="Franklin Gothic Book"/>
            </a:endParaRPr>
          </a:p>
          <a:p>
            <a:pPr marL="329040" indent="-32904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75f6d"/>
                </a:solidFill>
                <a:latin typeface="Franklin Gothic Book"/>
              </a:rPr>
              <a:t>Hacer</a:t>
            </a:r>
            <a:r>
              <a:rPr b="0" lang="en-US" sz="30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en-US" sz="30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en-US" sz="3000" spc="-1" strike="noStrike">
                <a:solidFill>
                  <a:srgbClr val="575f6d"/>
                </a:solidFill>
                <a:latin typeface="Franklin Gothic Book"/>
              </a:rPr>
              <a:t>haga</a:t>
            </a:r>
            <a:r>
              <a:rPr b="0" lang="en-US" sz="30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en-US" sz="30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en-US" sz="30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en-US" sz="30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en-US" sz="3000" spc="-1" strike="noStrike">
                <a:solidFill>
                  <a:srgbClr val="575f6d"/>
                </a:solidFill>
                <a:latin typeface="Franklin Gothic Book"/>
              </a:rPr>
              <a:t>hagan</a:t>
            </a:r>
            <a:endParaRPr b="0" lang="en-US" sz="3000" spc="-1" strike="noStrike">
              <a:solidFill>
                <a:srgbClr val="575f6d"/>
              </a:solidFill>
              <a:latin typeface="Franklin Gothic Book"/>
            </a:endParaRPr>
          </a:p>
          <a:p>
            <a:pPr marL="329040" indent="-32904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75f6d"/>
                </a:solidFill>
                <a:latin typeface="Franklin Gothic Book"/>
              </a:rPr>
              <a:t>Traer</a:t>
            </a:r>
            <a:r>
              <a:rPr b="1" lang="en-US" sz="30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en-US" sz="30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en-US" sz="30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en-US" sz="3000" spc="-1" strike="noStrike">
                <a:solidFill>
                  <a:srgbClr val="575f6d"/>
                </a:solidFill>
                <a:latin typeface="Franklin Gothic Book"/>
              </a:rPr>
              <a:t>traiga</a:t>
            </a:r>
            <a:r>
              <a:rPr b="0" lang="en-US" sz="30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en-US" sz="30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en-US" sz="30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en-US" sz="3000" spc="-1" strike="noStrike">
                <a:solidFill>
                  <a:srgbClr val="575f6d"/>
                </a:solidFill>
                <a:latin typeface="Franklin Gothic Book"/>
              </a:rPr>
              <a:t>traigan</a:t>
            </a:r>
            <a:endParaRPr b="0" lang="en-US" sz="3000" spc="-1" strike="noStrike">
              <a:solidFill>
                <a:srgbClr val="575f6d"/>
              </a:solidFill>
              <a:latin typeface="Franklin Gothic Book"/>
            </a:endParaRPr>
          </a:p>
          <a:p>
            <a:pPr marL="329040" indent="-32904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75f6d"/>
                </a:solidFill>
                <a:latin typeface="Franklin Gothic Book"/>
              </a:rPr>
              <a:t>Ser</a:t>
            </a:r>
            <a:r>
              <a:rPr b="0" lang="en-US" sz="30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en-US" sz="30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en-US" sz="30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en-US" sz="3000" spc="-1" strike="noStrike">
                <a:solidFill>
                  <a:srgbClr val="575f6d"/>
                </a:solidFill>
                <a:latin typeface="Franklin Gothic Book"/>
              </a:rPr>
              <a:t>sea</a:t>
            </a:r>
            <a:r>
              <a:rPr b="0" lang="en-US" sz="30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en-US" sz="30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en-US" sz="30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en-US" sz="30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en-US" sz="3000" spc="-1" strike="noStrike">
                <a:solidFill>
                  <a:srgbClr val="575f6d"/>
                </a:solidFill>
                <a:latin typeface="Franklin Gothic Book"/>
              </a:rPr>
              <a:t>sean</a:t>
            </a:r>
            <a:endParaRPr b="0" lang="en-US" sz="3000" spc="-1" strike="noStrike">
              <a:solidFill>
                <a:srgbClr val="575f6d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4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4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4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4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4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4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4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4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4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4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4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4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1" lang="en-US" sz="32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1" lang="en-US" sz="32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1" lang="en-US" sz="32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1" lang="en-US" sz="3200" spc="-1" strike="noStrike">
                <a:solidFill>
                  <a:srgbClr val="575f6d"/>
                </a:solidFill>
                <a:latin typeface="Franklin Gothic Book"/>
              </a:rPr>
              <a:t>Ud.</a:t>
            </a:r>
            <a:r>
              <a:rPr b="1" lang="en-US" sz="32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1" lang="en-US" sz="32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1" lang="en-US" sz="32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1" lang="en-US" sz="32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1" lang="en-US" sz="3200" spc="-1" strike="noStrike">
                <a:solidFill>
                  <a:srgbClr val="575f6d"/>
                </a:solidFill>
                <a:latin typeface="Franklin Gothic Book"/>
              </a:rPr>
              <a:t>Uds.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5f6d"/>
                </a:solidFill>
                <a:latin typeface="Franklin Gothic Book"/>
              </a:rPr>
              <a:t>Dar</a:t>
            </a: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dé</a:t>
            </a: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dén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5f6d"/>
                </a:solidFill>
                <a:latin typeface="Franklin Gothic Book"/>
              </a:rPr>
              <a:t>Cerrar</a:t>
            </a: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cierre</a:t>
            </a: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cierren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5f6d"/>
                </a:solidFill>
                <a:latin typeface="Franklin Gothic Book"/>
              </a:rPr>
              <a:t>Dormir</a:t>
            </a: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duerma</a:t>
            </a: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duerman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5f6d"/>
                </a:solidFill>
                <a:latin typeface="Franklin Gothic Book"/>
              </a:rPr>
              <a:t>Volver</a:t>
            </a: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vuelva</a:t>
            </a: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vuelvan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5f6d"/>
                </a:solidFill>
                <a:latin typeface="Franklin Gothic Book"/>
              </a:rPr>
              <a:t>Seguir</a:t>
            </a: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iga</a:t>
            </a: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igan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5f6d"/>
                </a:solidFill>
                <a:latin typeface="Franklin Gothic Book"/>
              </a:rPr>
              <a:t>Pedir</a:t>
            </a:r>
            <a:r>
              <a:rPr b="1" lang="en-US" sz="32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pida</a:t>
            </a: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pidan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5f6d"/>
                </a:solidFill>
                <a:latin typeface="Franklin Gothic Book"/>
              </a:rPr>
              <a:t>Pensar</a:t>
            </a: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piense</a:t>
            </a: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piensen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4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4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4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4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4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4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4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4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4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4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1" lang="en-US" sz="32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1" lang="en-US" sz="32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1" lang="en-US" sz="32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1" lang="en-US" sz="3200" spc="-1" strike="noStrike">
                <a:solidFill>
                  <a:srgbClr val="575f6d"/>
                </a:solidFill>
                <a:latin typeface="Franklin Gothic Book"/>
              </a:rPr>
              <a:t>Ud.</a:t>
            </a:r>
            <a:r>
              <a:rPr b="1" lang="en-US" sz="32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1" lang="en-US" sz="32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1" lang="en-US" sz="32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1" lang="en-US" sz="3200" spc="-1" strike="noStrike">
                <a:solidFill>
                  <a:srgbClr val="575f6d"/>
                </a:solidFill>
                <a:latin typeface="Franklin Gothic Book"/>
              </a:rPr>
              <a:t>Uds.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5f6d"/>
                </a:solidFill>
                <a:latin typeface="Franklin Gothic Book"/>
              </a:rPr>
              <a:t>Gritar</a:t>
            </a: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grite</a:t>
            </a: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griten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5f6d"/>
                </a:solidFill>
                <a:latin typeface="Franklin Gothic Book"/>
              </a:rPr>
              <a:t>Empezar</a:t>
            </a: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empiece</a:t>
            </a: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empiecen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5f6d"/>
                </a:solidFill>
                <a:latin typeface="Franklin Gothic Book"/>
              </a:rPr>
              <a:t>Mirar</a:t>
            </a:r>
            <a:r>
              <a:rPr b="1" lang="en-US" sz="32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mire</a:t>
            </a: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miren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5f6d"/>
                </a:solidFill>
                <a:latin typeface="Franklin Gothic Book"/>
              </a:rPr>
              <a:t>Estar</a:t>
            </a:r>
            <a:r>
              <a:rPr b="1" lang="en-US" sz="32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esté</a:t>
            </a: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estén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4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4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4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4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4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4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3T20:19:39Z</dcterms:created>
  <dc:creator>Maple Lake</dc:creator>
  <dc:description/>
  <dc:language>en-US</dc:language>
  <cp:lastModifiedBy> </cp:lastModifiedBy>
  <dcterms:modified xsi:type="dcterms:W3CDTF">2010-11-11T20:59:07Z</dcterms:modified>
  <cp:revision>7</cp:revision>
  <dc:subject/>
  <dc:title>Espanol 2  Capitulo 3</dc:title>
</cp:coreProperties>
</file>